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70B4-3323-44CC-9118-7ED91385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E40-D7BE-482E-8034-5BB9B691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A78-4BAA-49BE-B066-D7F3A64E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8962-A679-4CA8-9F6B-0D0D5C46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132-1220-494B-A6D9-382E4B1C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ECC-EDE2-4639-B6E5-01A999BF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959-6BD2-4B73-B6D0-C7CF4530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815-458C-413E-BC69-1B4EAEA2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2CB2-F75A-4B4F-8550-8C011975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036-C685-4764-82DD-00492B64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400-5EAF-40D9-802D-3B91E95C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A7A-9460-427D-B382-99D8264B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AC4C-3AAA-4A16-8194-F1B9E01EB70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Mak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utorial VVV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ly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renzo Na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ome builds include an installation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dd installation rules using C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33160" y="332100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(TARGETS myExe RUNTIME DESTINATION  &lt;dir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(FILES files DESTINATION &lt;dir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55560" y="4830840"/>
            <a:ext cx="706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dir&gt; can b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solute pa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ve path, in this case it will be CMAKE_INSTALL_PREFIX\&lt;dir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user can customize CMAKE_INSTALL_PREF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World with CMak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stall(TARGETS hell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UNTIME DESTINATION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${CMAKE_CURRENT_SOURCE_DIR}/../b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ant to compile an executable that links libraries from another package, e.g. YA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ïve w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539640" y="3429000"/>
            <a:ext cx="799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make_minimum_required(VERSION 2.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roject(hell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nclude_directories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C:\Program files\yarp\include”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dd_executable(hello hello.cp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arget_link_libraries(hell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C:\Program files\yarp\lib\libYARP_OS.lib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ant to compile an executable that links libraries from another package, e.g. YA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ïve w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39640" y="3429000"/>
            <a:ext cx="799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make_minimum_required(VERSION 2.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roject(hell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nclude_directories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C:\Program files\yarp\include”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dd_executable(hello hello.cp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arget_link_libraries(hell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C:\Program files\yarp\lib\libYARP_OS.lib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Straight Arrow Connector 5"/>
          <p:cNvCxnSpPr/>
          <p:nvPr/>
        </p:nvCxnSpPr>
        <p:spPr>
          <a:xfrm flipH="1" flipV="1">
            <a:off x="5002920" y="5660280"/>
            <a:ext cx="864360" cy="23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8"/>
          <p:cNvCxnSpPr/>
          <p:nvPr/>
        </p:nvCxnSpPr>
        <p:spPr>
          <a:xfrm flipH="1" flipV="1">
            <a:off x="4858920" y="4660200"/>
            <a:ext cx="1226160" cy="12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TextBox 10"/>
          <p:cNvSpPr/>
          <p:nvPr/>
        </p:nvSpPr>
        <p:spPr>
          <a:xfrm>
            <a:off x="5902560" y="602136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ation 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Straight Arrow Connector 12"/>
          <p:cNvCxnSpPr/>
          <p:nvPr/>
        </p:nvCxnSpPr>
        <p:spPr>
          <a:xfrm flipH="1">
            <a:off x="6300000" y="443664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TextBox 13"/>
          <p:cNvSpPr/>
          <p:nvPr/>
        </p:nvSpPr>
        <p:spPr>
          <a:xfrm>
            <a:off x="6459480" y="41497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 dependent (.a in Linu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ake has a few commands that can be used to find directories, executables and libraries insid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68360" y="31291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file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library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path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333360" y="4724280"/>
            <a:ext cx="8229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 there is a better interfac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_package(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ackage should provide you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s to libr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s to header 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ker flags (if an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d_package(&lt;PACKAGE&gt;  [VERSION]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function attempts to locate the package called &lt;PACKAGE&gt; and will return a set of variabl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INCLUDE_DI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LIBRA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_MAJ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_MIN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_package(YAR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INCLUDE_D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39640" y="691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oes find_package() wor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ks for system directories (C:\Program files\&lt;package&gt; or /usr/&lt;package&gt; /usr/local/&lt;package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k for environment variables, very popular &lt;PACKAGE&gt;_D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Make does not enforce a particular set of variables each package set different varia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xamp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PACKAGE&gt;_INCLUDE_D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PACKAGE&gt;_LI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c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YAR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cmake_minimum_required(VERSION 2.6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project(hell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find_package(YAR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nclude_directories(${YARP_INCLUDE_DIRS}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target_link_libraries(hello ${YARP_LIBRARIES}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source build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y build parameters in a simple portab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619280" y="3703680"/>
            <a:ext cx="1873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able txt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akeLists.t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5"/>
          <p:cNvCxnSpPr>
            <a:stCxn id="45" idx="3"/>
          </p:cNvCxnSpPr>
          <p:nvPr/>
        </p:nvCxnSpPr>
        <p:spPr>
          <a:xfrm flipV="1">
            <a:off x="3492360" y="402516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" name="TextBox 6"/>
          <p:cNvSpPr/>
          <p:nvPr/>
        </p:nvSpPr>
        <p:spPr>
          <a:xfrm>
            <a:off x="4356000" y="3832200"/>
            <a:ext cx="9367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6012000" y="3713040"/>
            <a:ext cx="1873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Files (i.e. Makefile or .sl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8"/>
          <p:cNvCxnSpPr/>
          <p:nvPr/>
        </p:nvCxnSpPr>
        <p:spPr>
          <a:xfrm flipV="1">
            <a:off x="5148000" y="4034880"/>
            <a:ext cx="719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Box 9"/>
          <p:cNvSpPr/>
          <p:nvPr/>
        </p:nvSpPr>
        <p:spPr>
          <a:xfrm>
            <a:off x="715320" y="4869000"/>
            <a:ext cx="185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, header fi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3853080" y="4984920"/>
            <a:ext cx="22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‘introspection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12"/>
          <p:cNvCxnSpPr/>
          <p:nvPr/>
        </p:nvCxnSpPr>
        <p:spPr>
          <a:xfrm flipV="1">
            <a:off x="1763640" y="4507920"/>
            <a:ext cx="288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13"/>
          <p:cNvCxnSpPr/>
          <p:nvPr/>
        </p:nvCxnSpPr>
        <p:spPr>
          <a:xfrm flipV="1">
            <a:off x="4500720" y="4347360"/>
            <a:ext cx="143280" cy="637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 solved by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ite and maintain project files for multiple platfor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ptional component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 on more than a single machine: different OS have different libraries, same OS ca be installed differentl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utomatically search for programs libraries header fi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 directory tree different from source tre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ndle dependenc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versus Dynamic libra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ands (case insensi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s (case sensi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39640" y="2997360"/>
            <a:ext cx="4595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a b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(FOO a b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${FOO}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“${FOO}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(PATH_TO_MY_FILE C:\program files\myfi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${PATH_TO_MY_FILE}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“${PATH_TO_MY_FILE}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World with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make_minimum_required(VERSION 2.6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oject(hell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clude_directories(${CMAKE_CURRENT_SOURCE_DIR}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STATUS "--&gt; Hello from CMake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f (WIN3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"--&gt; Running on windows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lse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"--&gt; Assuming running on Linux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f (NOT EXISTS "${CMAKE_CURRENT_SOURCE_DIR}/hello.cpp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FATAL_ERROR "File hello.cpp not found!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versus build direct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command l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kdir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d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ake ../ or ccmake ..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gu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kdir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ake-gu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source and build direct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t “c” until you get “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63400" y="5805360"/>
            <a:ext cx="57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uild = source dir: in source bui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uild != source dir: out of source bui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variables are determined only once and cached on disk; CMake will not touch them, only the user c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.g. user options or result of system introspection, info that are expensive to determine (compiler to use, system libraries, etc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do a fresh restart, clean the c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the gu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move CMakeCache.t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 on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executable(name file1.cpp file2.cpp header1.h header2.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get_link_libraries(name libna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library(name file1.cpp file2.cpp header1.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_directories(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definitions(-DFOO -DB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if _ENABLE_DEBUG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f(“Value of variable v is %d”, v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(ENABLE_DEBU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(ENABLE_DEBU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definitions(-D_ENABLE_DEBUG_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1:01:40Z</dcterms:created>
  <dc:creator>nat</dc:creator>
  <dc:description/>
  <dc:language>en-US</dc:language>
  <cp:lastModifiedBy>nat</cp:lastModifiedBy>
  <dcterms:modified xsi:type="dcterms:W3CDTF">2012-07-18T14:07:33Z</dcterms:modified>
  <cp:revision>24</cp:revision>
  <dc:subject/>
  <dc:title>CMake</dc:title>
</cp:coreProperties>
</file>